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B2F-AE3E-4749-84A2-9F05D7EC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B18-4932-4745-B6C1-535D75AA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9F9-0312-4B24-93E0-6E5692A8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B72-D716-403C-A20E-BFDDF996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2702-ABA3-420F-86F1-4F05053D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5990-7DE4-49B9-BA98-2A99F890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CD24-D897-4AF5-BB97-42050139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1B84-32DD-4CB7-9CCD-64D05CFD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D8C8-8FB4-4586-BE20-0FDD3F3B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98E5-3493-4844-8482-C153030D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9248-8281-4235-BC38-7A27BC98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44C-815D-4A87-9279-D3B51736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1253-B2E4-4E06-9B96-3381E241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D7F1-06A3-40C6-9D3A-51F4B30E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7AEF-E640-420F-91CD-89242540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9014-82A4-4B76-96B8-E39DA4B2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8FA9-D806-4188-831C-9744B40A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9925-0D57-47D0-9D4B-E00AF365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2468F-4657-404E-A63E-8FFE0CFA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2DF6-AD21-4B00-A44C-B1E10FEF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3CE1-76FB-4EB4-8397-E48EEDC3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16B77-552D-4821-8AA8-B69B8CE4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1D5-4507-4FAB-BAFE-ECC54B4F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0F35C-A1B7-4F29-BE2D-D2142E3E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0874-3712-4EA4-BC00-7DA27200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CBE7-8FD0-435E-9619-B7A2AA70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E5AAF-81E3-4C0D-BDCF-4EA08D3C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399E-F62D-4478-ABD2-EC68EF15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F52B-C0A0-46FA-889E-2ECC9471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9F11-9D35-4BE5-99E7-5EB3A71F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3FF13-BD6E-45C8-BC0B-1FF205D1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D759-5439-433C-AB7A-64EB2FB1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82CF7-53C4-484F-A256-BC8BA1C9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71B-32EC-49C2-A062-B2C3E8CB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FF719-D5DC-42B3-94AB-0C97157E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CAD59-6890-430D-87AA-5BE935BC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2140-5CFD-42A9-90F5-255BE4B8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EFE8-599F-4FD4-9C40-404479D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09B1A-F0DD-4C47-BF21-89C3B6E8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0231E-9511-4A9F-AEBF-C339C846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2AC6-4028-4AB8-8D43-94900B38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98449-0FD0-4B13-B2D8-48CB710A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66CAF-1DA4-4E40-A26B-E8321CB5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16495-92F4-44B8-8AB0-B6D336EC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245-82D7-44C5-99F1-C76217AE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D8F33-843A-408D-9E68-0AE34D39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04309-B403-4962-BE74-67B3D4D7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FA6EF-F219-45C8-B3C4-F6139563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CF172-01D9-49B9-87C7-89A8425F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C45B6-4A8C-4E60-A0C1-43B702EE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23E6B-A4D8-44CD-B444-8E26E6AF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4D43A-804E-4A2B-90E3-81047AD4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E9397-88D3-45AC-B22F-0A7F8C67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2A7E3-CCFC-4A13-A803-941968F8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47E6-8945-4061-A62D-9F7C1F8C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8E6-2FCD-408E-ADC9-99D0EE64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53662-EACE-42FE-B6E9-5F62F986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3462D-7436-4CED-81D4-21F5A2E3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1734E-F675-4247-BF6F-46CD0673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CFF12-6D83-4CB8-9911-597DF51C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48D9C-FB58-4196-AAB6-D7A779A4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A5801-6BDC-4BE7-8F75-E3DBFB8A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F2DB4-AED7-4934-B715-5EF7E3D1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2956-BAFE-48F0-8C15-2BC5333A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7ED52-FA93-453A-A72E-8FE9C8F7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9687B-7FFD-45A8-B4EF-A8FE2799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DD0-0F64-4C8E-ABED-8AAA5C63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C48D1-3C8F-4E65-931F-D6BEFEF2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3B2F3-E989-41E1-99E8-25D03D72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B8489-974B-4601-A8C6-8868F8C9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7D6D0-0887-4198-889C-8C37C90C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83794-75B8-4892-A89E-F95A34C8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448B2-2B23-461C-82C8-9512070C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27F65-5400-4FE0-A21D-43663E48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F815A-3F55-47D0-9A80-0E818C22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3505D-3582-442A-8697-684EABFA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4FE97-9C25-431C-9D80-A4B5B841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5DB-D2E8-4B62-A08E-E02B7A9E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F1781-2BCC-4264-8501-08B17F82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85B6B-D0C3-43DC-906D-E2025FA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C72AA-2FAF-424E-ACB8-5A389CBD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31CF5-EF76-4FCA-A65F-C1CA67C2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55E3D-AB4E-4D05-B1F1-23175D25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EA7-F11B-472F-94C4-FBC6B444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D2A2-E159-4E80-B5C9-0F610AE781B7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7A54-35E9-4F35-8C81-77B21A3CE07D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4761-475E-44D9-9F73-9A26AAEB56FB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536D-3FB4-4755-9C85-05F44C42031A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D16D-7BAE-4AA3-BAB2-56382D3C0174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5EB7-00FD-437F-8E0F-8E2CBE219F19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984B-EB87-4ECB-9524-91DE41696363}" type="slidenum">
              <a:rPr b="0" lang="en-US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21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3143"/>
                </a:solidFill>
                <a:latin typeface="Cooper Black"/>
              </a:rPr>
              <a:t>Challenge 2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7fd13b"/>
                </a:solidFill>
                <a:latin typeface="Cooper Black"/>
              </a:rPr>
              <a:t>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7fd13b"/>
              </a:solidFill>
              <a:latin typeface="Cooper Black"/>
              <a:ea typeface="Cooper Black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LaRosa  http://www.middleschoolscience.com  for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addc"/>
                </a:solidFill>
                <a:latin typeface="Cooper Black"/>
              </a:rPr>
              <a:t>Equipmen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addc"/>
              </a:solidFill>
              <a:latin typeface="Cooper Black"/>
              <a:ea typeface="Cooper Black"/>
            </a:endParaRPr>
          </a:p>
        </p:txBody>
      </p:sp>
      <p:pic>
        <p:nvPicPr>
          <p:cNvPr id="323" name="Picture 7" descr="C:\Documents and Settings\Liz\Local Settings\Temporary Internet Files\Content.IE5\MB5MZXEX\MCj04110470000[1].wmf"/>
          <p:cNvPicPr/>
          <p:nvPr/>
        </p:nvPicPr>
        <p:blipFill>
          <a:blip r:embed="rId2"/>
          <a:stretch/>
        </p:blipFill>
        <p:spPr>
          <a:xfrm>
            <a:off x="533520" y="342900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Identify the following lab equipment: </a:t>
            </a:r>
            <a:endParaRPr b="0" lang="en-US" sz="36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25" name="Rectangle 12" descr=""/>
          <p:cNvPicPr/>
          <p:nvPr/>
        </p:nvPicPr>
        <p:blipFill>
          <a:blip r:embed="rId1"/>
          <a:stretch/>
        </p:blipFill>
        <p:spPr>
          <a:xfrm>
            <a:off x="1773360" y="2554200"/>
            <a:ext cx="969840" cy="82872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13" descr=""/>
          <p:cNvPicPr/>
          <p:nvPr/>
        </p:nvPicPr>
        <p:blipFill>
          <a:blip r:embed="rId2"/>
          <a:stretch/>
        </p:blipFill>
        <p:spPr>
          <a:xfrm>
            <a:off x="4127400" y="2859120"/>
            <a:ext cx="987480" cy="82872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14" descr=""/>
          <p:cNvPicPr/>
          <p:nvPr/>
        </p:nvPicPr>
        <p:blipFill>
          <a:blip r:embed="rId3"/>
          <a:stretch/>
        </p:blipFill>
        <p:spPr>
          <a:xfrm>
            <a:off x="7248600" y="2938320"/>
            <a:ext cx="987480" cy="82260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15" descr=""/>
          <p:cNvPicPr/>
          <p:nvPr/>
        </p:nvPicPr>
        <p:blipFill>
          <a:blip r:embed="rId4"/>
          <a:stretch/>
        </p:blipFill>
        <p:spPr>
          <a:xfrm>
            <a:off x="2828880" y="5681520"/>
            <a:ext cx="987480" cy="822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3" descr="http://www.columbia.edu/itc/chemistry/chem-cf1500/labpix/images/testtubeholder.jpg"/>
          <p:cNvPicPr/>
          <p:nvPr/>
        </p:nvPicPr>
        <p:blipFill>
          <a:blip r:embed="rId5"/>
          <a:stretch/>
        </p:blipFill>
        <p:spPr>
          <a:xfrm rot="20260200">
            <a:off x="1163520" y="1374480"/>
            <a:ext cx="2210040" cy="944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6" descr=""/>
          <p:cNvPicPr/>
          <p:nvPr/>
        </p:nvPicPr>
        <p:blipFill>
          <a:blip r:embed="rId6"/>
          <a:stretch/>
        </p:blipFill>
        <p:spPr>
          <a:xfrm>
            <a:off x="3809880" y="762120"/>
            <a:ext cx="2314800" cy="2340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7" descr=""/>
          <p:cNvPicPr/>
          <p:nvPr/>
        </p:nvPicPr>
        <p:blipFill>
          <a:blip r:embed="rId7"/>
          <a:stretch/>
        </p:blipFill>
        <p:spPr>
          <a:xfrm>
            <a:off x="7010280" y="838080"/>
            <a:ext cx="1600200" cy="2082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8" descr=""/>
          <p:cNvPicPr/>
          <p:nvPr/>
        </p:nvPicPr>
        <p:blipFill>
          <a:blip r:embed="rId8"/>
          <a:stretch/>
        </p:blipFill>
        <p:spPr>
          <a:xfrm>
            <a:off x="2057400" y="4191120"/>
            <a:ext cx="2666880" cy="156816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27" descr=""/>
          <p:cNvPicPr/>
          <p:nvPr/>
        </p:nvPicPr>
        <p:blipFill>
          <a:blip r:embed="rId9"/>
          <a:stretch/>
        </p:blipFill>
        <p:spPr>
          <a:xfrm>
            <a:off x="6791400" y="5297400"/>
            <a:ext cx="957240" cy="828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3" descr="http://www.msnucleus.org/membership/html/k-6/as/scimath/3/images/assm3_5a2.gif"/>
          <p:cNvPicPr/>
          <p:nvPr/>
        </p:nvPicPr>
        <p:blipFill>
          <a:blip r:embed="rId10"/>
          <a:stretch/>
        </p:blipFill>
        <p:spPr>
          <a:xfrm>
            <a:off x="5867280" y="3676680"/>
            <a:ext cx="1067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8674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495a74"/>
                </a:solidFill>
                <a:latin typeface="Gill Sans MT"/>
              </a:rPr>
              <a:t>Identify the following lab equipment: </a:t>
            </a:r>
            <a:endParaRPr b="0" lang="en-US" sz="3600" spc="-1" strike="noStrike">
              <a:solidFill>
                <a:srgbClr val="495a74"/>
              </a:solidFill>
              <a:latin typeface="Gill Sans MT"/>
            </a:endParaRPr>
          </a:p>
        </p:txBody>
      </p:sp>
      <p:pic>
        <p:nvPicPr>
          <p:cNvPr id="336" name="Rectangle 12" descr=""/>
          <p:cNvPicPr/>
          <p:nvPr/>
        </p:nvPicPr>
        <p:blipFill>
          <a:blip r:embed="rId1"/>
          <a:stretch/>
        </p:blipFill>
        <p:spPr>
          <a:xfrm>
            <a:off x="298440" y="2852640"/>
            <a:ext cx="2779560" cy="51300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13" descr=""/>
          <p:cNvPicPr/>
          <p:nvPr/>
        </p:nvPicPr>
        <p:blipFill>
          <a:blip r:embed="rId2"/>
          <a:stretch/>
        </p:blipFill>
        <p:spPr>
          <a:xfrm>
            <a:off x="4254480" y="3078000"/>
            <a:ext cx="1566720" cy="513000"/>
          </a:xfrm>
          <a:prstGeom prst="rect">
            <a:avLst/>
          </a:prstGeom>
          <a:ln w="0">
            <a:noFill/>
          </a:ln>
        </p:spPr>
      </p:pic>
      <p:pic>
        <p:nvPicPr>
          <p:cNvPr id="338" name="Rectangle 14" descr=""/>
          <p:cNvPicPr/>
          <p:nvPr/>
        </p:nvPicPr>
        <p:blipFill>
          <a:blip r:embed="rId3"/>
          <a:stretch/>
        </p:blipFill>
        <p:spPr>
          <a:xfrm>
            <a:off x="6089760" y="2925720"/>
            <a:ext cx="2901960" cy="512640"/>
          </a:xfrm>
          <a:prstGeom prst="rect">
            <a:avLst/>
          </a:prstGeom>
          <a:ln w="0">
            <a:noFill/>
          </a:ln>
        </p:spPr>
      </p:pic>
      <p:pic>
        <p:nvPicPr>
          <p:cNvPr id="339" name="Rectangle 15" descr=""/>
          <p:cNvPicPr/>
          <p:nvPr/>
        </p:nvPicPr>
        <p:blipFill>
          <a:blip r:embed="rId4"/>
          <a:stretch/>
        </p:blipFill>
        <p:spPr>
          <a:xfrm>
            <a:off x="2200320" y="5668920"/>
            <a:ext cx="1792080" cy="512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http://www.columbia.edu/itc/chemistry/chem-cf1500/labpix/images/testtubeholder.jpg"/>
          <p:cNvPicPr/>
          <p:nvPr/>
        </p:nvPicPr>
        <p:blipFill>
          <a:blip r:embed="rId5"/>
          <a:stretch/>
        </p:blipFill>
        <p:spPr>
          <a:xfrm rot="20260200">
            <a:off x="1163520" y="1374480"/>
            <a:ext cx="2210040" cy="944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6" descr=""/>
          <p:cNvPicPr/>
          <p:nvPr/>
        </p:nvPicPr>
        <p:blipFill>
          <a:blip r:embed="rId6"/>
          <a:stretch/>
        </p:blipFill>
        <p:spPr>
          <a:xfrm>
            <a:off x="3809880" y="762120"/>
            <a:ext cx="2314800" cy="2340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7" descr=""/>
          <p:cNvPicPr/>
          <p:nvPr/>
        </p:nvPicPr>
        <p:blipFill>
          <a:blip r:embed="rId7"/>
          <a:stretch/>
        </p:blipFill>
        <p:spPr>
          <a:xfrm>
            <a:off x="7010280" y="838080"/>
            <a:ext cx="1600200" cy="2082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8" descr=""/>
          <p:cNvPicPr/>
          <p:nvPr/>
        </p:nvPicPr>
        <p:blipFill>
          <a:blip r:embed="rId8"/>
          <a:stretch/>
        </p:blipFill>
        <p:spPr>
          <a:xfrm>
            <a:off x="2057400" y="4191120"/>
            <a:ext cx="2666880" cy="156816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27" descr=""/>
          <p:cNvPicPr/>
          <p:nvPr/>
        </p:nvPicPr>
        <p:blipFill>
          <a:blip r:embed="rId9"/>
          <a:stretch/>
        </p:blipFill>
        <p:spPr>
          <a:xfrm>
            <a:off x="6851520" y="4529160"/>
            <a:ext cx="1981440" cy="878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http://www.msnucleus.org/membership/html/k-6/as/scimath/3/images/assm3_5a2.gif"/>
          <p:cNvPicPr/>
          <p:nvPr/>
        </p:nvPicPr>
        <p:blipFill>
          <a:blip r:embed="rId10"/>
          <a:stretch/>
        </p:blipFill>
        <p:spPr>
          <a:xfrm>
            <a:off x="5867280" y="3676680"/>
            <a:ext cx="1067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Liz</cp:lastModifiedBy>
  <dcterms:modified xsi:type="dcterms:W3CDTF">2008-08-14T03:17:41Z</dcterms:modified>
  <cp:revision>132</cp:revision>
  <dc:subject/>
  <dc:title>Slide 1</dc:title>
</cp:coreProperties>
</file>